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commentAuthors.xml><?xml version="1.0" encoding="utf-8"?>
<p:cmAuthorLst xmlns:p="http://schemas.openxmlformats.org/presentationml/2006/main">
  <p:cmAuthor id="0" name="Claudia Urrea" initials="C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9.xml><?xml version="1.0" encoding="utf-8"?>
<p:cmLst xmlns:p="http://schemas.openxmlformats.org/presentationml/2006/main">
  <p:cm authorId="0" dt="2012-07-20T15:40:22.786000000" idx="1">
    <p:pos x="10" y="10"/>
    <p:text>Me parece que estas deben de ser gráficas punteadas por que no hay una linealidad en las Actividades... tal vez lo mas apropiado para mostrar lo maximo esperado, contra la medio, es unas gráficas de barras... lo mismo con la gráfica que sigue...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Y"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Y"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84F4-1C26-4649-9ECD-82790B1BB912}" type="slidenum">
              <a:rPr b="0" lang="es-PY"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C559-8F51-4770-A442-2C2E7790D962}" type="slidenum">
              <a:rPr b="0" lang="es-P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C382B-B621-40BF-A74D-B82D55872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F48B1-76FC-4CC3-A8CB-3A9AF86A2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8E449-8E54-40E9-904F-B3EE970B2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0B95E-A15F-4C63-9411-237175BE5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337C-7BCF-4116-A828-8A600EB9D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E07F4-A9D4-493A-B54E-8149540F1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46350-F9D9-4681-89BC-A45890844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D0CF0-63DD-46E5-9D81-95BDD0524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BA77B-5970-4402-BCE5-5CCF5A97E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F374-D736-424F-A8C8-B2A7306F4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D406C-CED8-4A55-BC3A-10DDB9F84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9D1C6-4D51-4CEA-979A-3FF345EE9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73B8-DE4C-4CAF-B9DF-0BD1293FF29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197000"/>
            <a:ext cx="7772400" cy="49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Calibri"/>
              </a:rPr>
              <a:t>Evaluación </a:t>
            </a:r>
            <a:br>
              <a:rPr sz="4000"/>
            </a:br>
            <a:r>
              <a:rPr b="1" lang="es-ES" sz="4000" spc="-1" strike="noStrike">
                <a:solidFill>
                  <a:srgbClr val="000000"/>
                </a:solidFill>
                <a:latin typeface="Calibri"/>
              </a:rPr>
              <a:t>comparativa multifactorial </a:t>
            </a:r>
            <a:br>
              <a:rPr sz="4000"/>
            </a:br>
            <a:r>
              <a:rPr b="1" lang="es-ES" sz="4000" spc="-1" strike="noStrike">
                <a:solidFill>
                  <a:srgbClr val="000000"/>
                </a:solidFill>
                <a:latin typeface="Calibri"/>
              </a:rPr>
              <a:t>del proyecto </a:t>
            </a:r>
            <a:br>
              <a:rPr sz="4000"/>
            </a:br>
            <a:r>
              <a:rPr b="1" lang="es-ES" sz="3600" spc="-1" strike="noStrike">
                <a:solidFill>
                  <a:srgbClr val="000000"/>
                </a:solidFill>
                <a:latin typeface="Calibri"/>
              </a:rPr>
              <a:t>“Una Computadora por Niño” </a:t>
            </a:r>
            <a:br>
              <a:rPr sz="3600"/>
            </a:br>
            <a:r>
              <a:rPr b="1" lang="es-ES" sz="3600" spc="-1" strike="noStrike">
                <a:solidFill>
                  <a:srgbClr val="000000"/>
                </a:solidFill>
                <a:latin typeface="Calibri"/>
              </a:rPr>
              <a:t>en </a:t>
            </a:r>
            <a:br>
              <a:rPr sz="3600"/>
            </a:br>
            <a:r>
              <a:rPr b="1" lang="es-ES" sz="3600" spc="-1" strike="noStrike">
                <a:solidFill>
                  <a:srgbClr val="000000"/>
                </a:solidFill>
                <a:latin typeface="Calibri"/>
              </a:rPr>
              <a:t>Caacupé, Paraguay.</a:t>
            </a:r>
            <a:br>
              <a:rPr sz="3600"/>
            </a:br>
            <a:br>
              <a:rPr sz="3600"/>
            </a:br>
            <a:r>
              <a:rPr b="1" lang="es-ES_tradnl" sz="2800" spc="-1" strike="noStrike">
                <a:solidFill>
                  <a:srgbClr val="000000"/>
                </a:solidFill>
                <a:latin typeface="Calibri"/>
              </a:rPr>
              <a:t>Abril a Noviembre del 2.011</a:t>
            </a:r>
            <a:br>
              <a:rPr sz="3200"/>
            </a:br>
            <a:br>
              <a:rPr sz="3600"/>
            </a:br>
            <a:br>
              <a:rPr sz="40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900000" y="981000"/>
            <a:ext cx="7475760" cy="510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
          <p:cNvPicPr/>
          <p:nvPr/>
        </p:nvPicPr>
        <p:blipFill>
          <a:blip r:embed="rId1"/>
          <a:stretch/>
        </p:blipFill>
        <p:spPr>
          <a:xfrm>
            <a:off x="755640" y="115920"/>
            <a:ext cx="7858080" cy="648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395280" y="82440"/>
            <a:ext cx="8601120" cy="6775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917640" y="985680"/>
            <a:ext cx="7183440" cy="438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Calibri"/>
              </a:rPr>
              <a:t>Fundamentación</a:t>
            </a:r>
            <a:endParaRPr b="0" lang="en-US" sz="4400" spc="-1" strike="noStrike">
              <a:solidFill>
                <a:srgbClr val="000000"/>
              </a:solidFill>
              <a:latin typeface="Calibri"/>
            </a:endParaRPr>
          </a:p>
        </p:txBody>
      </p:sp>
      <p:sp>
        <p:nvSpPr>
          <p:cNvPr id="50" name=""/>
          <p:cNvSpPr txBox="1"/>
          <p:nvPr/>
        </p:nvSpPr>
        <p:spPr>
          <a:xfrm>
            <a:off x="457200" y="1599840"/>
            <a:ext cx="8229600" cy="485316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 </a:t>
            </a:r>
            <a:r>
              <a:rPr b="0" i="1" lang="es-ES" sz="3000" spc="-1" strike="noStrike">
                <a:solidFill>
                  <a:srgbClr val="000000"/>
                </a:solidFill>
                <a:latin typeface="Calibri"/>
              </a:rPr>
              <a:t>	</a:t>
            </a:r>
            <a:r>
              <a:rPr b="0" i="1" lang="es-ES" sz="3000" spc="-1" strike="noStrike">
                <a:solidFill>
                  <a:srgbClr val="000000"/>
                </a:solidFill>
                <a:latin typeface="Calibri"/>
              </a:rPr>
              <a:t>Durante la implementación del proyecto se ha observado creatividad y competencias pocas veces apreciado</a:t>
            </a:r>
            <a:r>
              <a:rPr b="0" i="1" lang="es-ES" sz="3000" spc="-1" strike="noStrike">
                <a:solidFill>
                  <a:srgbClr val="ffff00"/>
                </a:solidFill>
                <a:latin typeface="Calibri"/>
              </a:rPr>
              <a:t> </a:t>
            </a:r>
            <a:r>
              <a:rPr b="0" i="1" lang="es-ES" sz="3000" spc="-1" strike="noStrike">
                <a:solidFill>
                  <a:srgbClr val="000000"/>
                </a:solidFill>
                <a:latin typeface="Calibri"/>
              </a:rPr>
              <a:t>en los trabajos de los niños beneficiaros del proyecto. Es nuestro interés identificar nuevas manera de observar y evaluar la creatividad y capacidades cognitivas de los niños muchas veces obviadas o desconocidas en el desarrollo diario de las clases a las que asisten. De igual manera ofrecer mayor apoyo pedagógico a aquellas instituciones cuyos alumnos podrían estar inmersos en un entorno de aprendizaje pobre, sin espacio para el desarrollo de la creatividad y la innovació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Calibri"/>
              </a:rPr>
              <a:t>Universo</a:t>
            </a:r>
            <a:br>
              <a:rPr sz="4000"/>
            </a:br>
            <a:r>
              <a:rPr b="0" i="1" lang="es-ES" sz="4000" spc="-1" strike="noStrike">
                <a:solidFill>
                  <a:srgbClr val="000000"/>
                </a:solidFill>
                <a:latin typeface="Calibri"/>
              </a:rPr>
              <a:t>4to Grado</a:t>
            </a:r>
            <a:endParaRPr b="0" lang="en-US" sz="4000" spc="-1" strike="noStrike">
              <a:solidFill>
                <a:srgbClr val="000000"/>
              </a:solidFill>
              <a:latin typeface="Calibri"/>
            </a:endParaRPr>
          </a:p>
        </p:txBody>
      </p:sp>
      <p:pic>
        <p:nvPicPr>
          <p:cNvPr id="52" name="Picture 2" descr=""/>
          <p:cNvPicPr/>
          <p:nvPr/>
        </p:nvPicPr>
        <p:blipFill>
          <a:blip r:embed="rId1"/>
          <a:stretch/>
        </p:blipFill>
        <p:spPr>
          <a:xfrm>
            <a:off x="2160720" y="1484280"/>
            <a:ext cx="4514760" cy="494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Objetivos del estudio</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Estimar el nivel de creatividad, de lectura comprensiva y pensamiento lógico matemático, con referencia a las instituciones en las que se encuentran matriculad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oponer indicadores para medir el nivel de fluidez de las Actividades de la plataforma tecnológica “Entorno Sug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oponer decisiones pedagógicas adecuadas a partir de la información obtenid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Instrumento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Test de Lectura Comprensiva y Razonamiento Lógico Matemátic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Test de Pensamiento Creativo Divergen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Termino Medio General del año escola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Entrevista a las maestras y a los niños del grado seleccionado antes de la entrega de las X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Clasificación cuantitativa del el uso de las Actividades, con y sin programación, del Entorno Sug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Datos</a:t>
            </a:r>
            <a:endParaRPr b="0" lang="en-US" sz="4400" spc="-1" strike="noStrike">
              <a:solidFill>
                <a:srgbClr val="000000"/>
              </a:solidFill>
              <a:latin typeface="Calibri"/>
            </a:endParaRPr>
          </a:p>
        </p:txBody>
      </p:sp>
      <p:pic>
        <p:nvPicPr>
          <p:cNvPr id="58" name="Picture 5" descr=""/>
          <p:cNvPicPr/>
          <p:nvPr/>
        </p:nvPicPr>
        <p:blipFill>
          <a:blip r:embed="rId1"/>
          <a:stretch/>
        </p:blipFill>
        <p:spPr>
          <a:xfrm>
            <a:off x="304920" y="1052640"/>
            <a:ext cx="8826480" cy="536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Resultado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El </a:t>
            </a:r>
            <a:r>
              <a:rPr b="0" i="1" lang="es-ES" sz="2000" spc="-1" strike="noStrike">
                <a:solidFill>
                  <a:srgbClr val="ffff00"/>
                </a:solidFill>
                <a:latin typeface="Calibri"/>
              </a:rPr>
              <a:t> </a:t>
            </a:r>
            <a:r>
              <a:rPr b="0" i="1" lang="es-ES" sz="2000" spc="-1" strike="noStrike">
                <a:solidFill>
                  <a:srgbClr val="000000"/>
                </a:solidFill>
                <a:latin typeface="Calibri"/>
              </a:rPr>
              <a:t>Termino Medio General (TMG)no es un indicador certero de las aptitudes de pensamiento abstracto de los alumn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La infraestructura escolar  (484) y el numero de alumnos (11) por grado no incidió en los resultados de aprendizaje escola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La cantidad de actividades del ES utilizadas por el usuario no es un indicador de fluidez tecnológ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El uso de las actividades del ES y la fluidez no se relacionan con el resultado obtenido por los niños en evaluaciones formales, pero si con la predisposición de la maestra hacia la tecnologí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Conclusion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	</a:t>
            </a:r>
            <a:r>
              <a:rPr b="0" i="1" lang="es-ES" sz="3200" spc="-1" strike="noStrike">
                <a:solidFill>
                  <a:srgbClr val="000000"/>
                </a:solidFill>
                <a:latin typeface="Calibri"/>
              </a:rPr>
              <a:t>La información sobre el proceso de creatividad, razonamiento, reflexión, de los niños deberá provenir de diferentes fuentes. La escuela dentro de un sistema estructurado, poco flexible, con procesos no acorde con las exigencias actuales no tiene la oportunidad de conocer a cabalidad a sus alumnos, restando importancia o desconocimiento del verdadero potencial del niñ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CuadroTexto"/>
          <p:cNvSpPr/>
          <p:nvPr/>
        </p:nvSpPr>
        <p:spPr>
          <a:xfrm>
            <a:off x="971640" y="620640"/>
            <a:ext cx="72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000000"/>
                </a:solidFill>
                <a:latin typeface="Calibri"/>
              </a:rPr>
              <a:t>Perfil de logro de Actividades sin programación. </a:t>
            </a:r>
            <a:endParaRPr b="0" lang="en-US" sz="2400" spc="-1" strike="noStrike">
              <a:solidFill>
                <a:srgbClr val="000000"/>
              </a:solidFill>
              <a:latin typeface="Arial"/>
            </a:endParaRPr>
          </a:p>
        </p:txBody>
      </p:sp>
      <p:pic>
        <p:nvPicPr>
          <p:cNvPr id="64" name="1 Gráfico" descr=""/>
          <p:cNvPicPr/>
          <p:nvPr/>
        </p:nvPicPr>
        <p:blipFill>
          <a:blip r:embed="rId1"/>
          <a:stretch/>
        </p:blipFill>
        <p:spPr>
          <a:xfrm>
            <a:off x="884160" y="1158840"/>
            <a:ext cx="7375680" cy="454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16:32:50Z</dcterms:created>
  <dc:creator>USER</dc:creator>
  <dc:description/>
  <dc:language>en-US</dc:language>
  <cp:lastModifiedBy>Orlando</cp:lastModifiedBy>
  <dcterms:modified xsi:type="dcterms:W3CDTF">2012-07-24T00:06:49Z</dcterms:modified>
  <cp:revision>47</cp:revision>
  <dc:subject/>
  <dc:title>Evaluación  comparativa multifactorial  del proyecto  “Una Computadora por Niño”  en  Caacupé, Paraguay.</dc:title>
</cp:coreProperties>
</file>